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A01-CA97-4107-AB5F-38D404E5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C53-3985-4E78-AF1F-7B5D4CED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A0C-9D99-43C2-BA62-0F42F4E5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99C-BE7D-4C3C-8680-34458EFD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A037-5972-4306-B774-5D2271FE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2751-18EB-4E2C-B278-894C967C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39E6-75BC-489C-8D1B-DDC0F071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B083-AB51-4C0D-94C3-5535218A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6F18-EC2B-4614-99B4-074C488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CA6-FD6C-41A4-812B-851452C4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2279-3E2C-4458-AAEF-F0C9847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624-9131-49F3-AFA6-E1B50680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0261-12DC-4169-870D-E9884D0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1CFF-2FBA-477B-A677-E5DDAEA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B5D-D361-408C-BF73-3B02BFA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65CE-2CD9-4E0E-9C37-02D81ED4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7AE1-021F-4328-BE2C-671D9E3B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D26-3F6D-41FC-9B0B-E9BB0EA3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AB5-C8DD-4345-93E8-A1348834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BF8-BEDF-427A-A428-ADE9B6B6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72E-EFA0-4211-B2A5-E3CC311A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FF6-946E-4C18-B53D-7E3D8B3D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FF7-5189-49B3-8F57-5D677455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24C-3014-417E-AD65-362BC093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A1D6-15FB-4535-8117-3443B7183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8A6-323D-4DCE-9EE7-2E57120E2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91080" y="152280"/>
            <a:ext cx="5867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Sensor Uni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85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Robotics with Mr. Ru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Let’s Have a Great Year!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3747960" cy="37479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Unit Challenge Summary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375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hallenge includes obstacles which forces students to use sensors in order to get to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area. The robot must first begin at the starting area, touch the wall, follow a line, ge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alibration area using the Sonar, Touch, or Light sensor, and finally getting to the go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Essential Ques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133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Is technology the answe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Unit Question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295280"/>
            <a:ext cx="746748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What roles do robots play in socie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can robots be used to solve today’s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88620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What does the TouchSensor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What does the LightSensor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es the SonarSensor work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352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Verdana"/>
              </a:rPr>
              <a:t>Benefits of Using Project Approaches, Ongoing Assessment, and CFQs in My Unit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se their writing skills to create and maintain an Engineering Noteboo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Engineering Notebooks are evaluated by a panel of jud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work in groups utilizing each others strength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learn writing and thinking skills while they are working on the pro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e project they give and receive feedback on their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Verdana"/>
              </a:rPr>
              <a:t>By Using Project Approaches,  Ongoing Assessment, and CFQs</a:t>
            </a:r>
            <a:endParaRPr b="0" lang="en-US" sz="28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y Student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 how to document engineering problems and solu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 to work cooperatively with teamma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functionality of each task and unit challe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990720"/>
          <a:ext cx="1295280" cy="113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90720"/>
                    <a:ext cx="12952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981080"/>
            <a:ext cx="746748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use my Essential and Unit Ques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out what assumptions students have about the reach of technolog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her information on higher-order thinking and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skil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valuating the Design and Planning elements of their rob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monitoring their ability to work cooperatively and problem-solv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676520"/>
            <a:ext cx="70102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will learn from the assess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-knowledge of basic engineering concepts and skills, and RobotC 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onceptions about technology and it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676680"/>
            <a:ext cx="6629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will gain from the assess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nd teacher feed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portunity to modify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My Goals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real-world applications to Robotic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higher-order thinking, particularly problem-solving skil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students do Robotic presentations at local elementary and middle schools, and to the communit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/>
  <dc:language>en-US</dc:language>
  <cp:lastModifiedBy>RoboCoach</cp:lastModifiedBy>
  <dcterms:modified xsi:type="dcterms:W3CDTF">2010-08-05T17:15:33Z</dcterms:modified>
  <cp:revision>41</cp:revision>
  <dc:subject/>
  <dc:title>PowerPoint Presentation</dc:title>
</cp:coreProperties>
</file>